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8BB-CBCB-4B7B-832C-89C4259F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38D-D4EC-481B-88F2-5DFED03D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0A2-59DB-4404-AE43-2AFCC1D0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5D4-6179-4609-8F12-C09A82D5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D4427-4D83-4614-8CD2-5106AB5F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90DA5-E436-45EA-9337-F41C5BCD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526AA-0F0D-4756-852D-F033C1F3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D7FBF-EF97-4F9B-9259-703B5B4A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6BE0B-D886-498E-979A-EF55B0F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07F16-392B-4AFF-A477-5F537969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E2DCB-AF1D-4EDF-A544-B519BD04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9E1-8542-45A9-9758-022C784C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7F4AD-F8C2-4D8E-B7A3-0F630A4C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047BE-A8D6-45B8-8FB6-FC7747C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0DF98-054C-4C74-B457-6059E04D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BD624-79BB-4058-AB77-8B8F54BE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483A-19B4-4FF3-BD28-BB44DB7A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B7A-013E-47EA-B99F-F6661D96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B9D-4ACC-4F87-AA01-8ABF994B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336-588E-496B-8AEB-230766AE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D7F-BBA9-4725-A58A-000F78ED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354-29A6-470F-9310-D00CB996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CB2-6CCF-4FCC-8CF0-6C6F8A45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C55-06B9-41F7-AB74-9196EB95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003-867E-4747-A460-16B46195B9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E8CE-6F83-4B3C-A156-F28D5DE64F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ood hygien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9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re is some facts about food hygien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for Bacteria to Spread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acteria start to develop within two hours and once they develop, they spread rapid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ave the food out any longer than 2 hour’s you'll just be invi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4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647400">
            <a:off x="468000" y="119664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50616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4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745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7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49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4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235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2:06:44Z</dcterms:created>
  <dc:creator>Administrator</dc:creator>
  <dc:description/>
  <dc:language>en-US</dc:language>
  <cp:lastModifiedBy>Administrator</cp:lastModifiedBy>
  <dcterms:modified xsi:type="dcterms:W3CDTF">2009-08-05T02:38:01Z</dcterms:modified>
  <cp:revision>4</cp:revision>
  <dc:subject/>
  <dc:title>Food hygiene</dc:title>
</cp:coreProperties>
</file>