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E17-F13B-4D11-8D6E-46AC0E30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626-8D29-4D78-949D-121E87D1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F7C-173B-40BE-B781-26956DB2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1C6-E872-4042-9E9E-35BACE66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24EB5-EFBC-4B12-B3DE-0960551F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35D1B-528E-4A5F-971E-345ABCE6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F60EA-A18B-42E0-9163-3F919200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4B98D-EEB8-43CB-8766-7ADC7FEE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6A210-BE20-4491-8494-866280E7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1B622-EF10-4A35-9153-7E130AA5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5F83F-E478-4F1F-BF73-7D10A40B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5F4-32B3-4623-A8D7-90A47093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906E5-3A83-43CF-8309-69DD779F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ADC6D-78E8-45C9-9DAF-5037838A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0D346-2F49-42AC-90CD-95D99CD0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03E55-BB62-44B0-9C16-8BE36677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10C9A-7BC0-4012-AF01-5C0475E2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A3A-F4E7-4EB3-974E-4C08843F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7FD-D29E-4B5E-88A6-9AA1C503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3B4-2A75-485E-B9AE-3F58E954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C82-45B4-4F44-BD77-D083D09E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71D-5034-47A7-BBA5-D0C5B3D5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6AA-7F3D-4B0B-8817-AEB36339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D58-0BA3-47F7-8A78-0F97B3F5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01EF-5824-4B56-A153-49B1661BB3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46D0-D8C9-40DA-8921-E0C3F91FAF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Food hygien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399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ere is some facts about food hygiene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Does it Take for Bacteria to Spread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Bacteria start to develop within two hours and once they develop, they spread rapid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ave the food out any longer than 2 hour’s you'll just be inviting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5600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74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 rot="647400">
            <a:off x="468000" y="1196640"/>
            <a:ext cx="716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81080" y="-243000"/>
            <a:ext cx="950616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745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745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474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49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745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235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74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2:06:44Z</dcterms:created>
  <dc:creator>Administrator</dc:creator>
  <dc:description/>
  <dc:language>en-US</dc:language>
  <cp:lastModifiedBy>Administrator</cp:lastModifiedBy>
  <dcterms:modified xsi:type="dcterms:W3CDTF">2009-08-05T02:38:01Z</dcterms:modified>
  <cp:revision>4</cp:revision>
  <dc:subject/>
  <dc:title>Food hygiene</dc:title>
</cp:coreProperties>
</file>