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B5F-9AD8-46C7-9808-17ACB80C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3BC-DD7D-47CF-B914-3763AF4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317-3DB8-4D2A-90CB-1AFAA0B2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C76-FFD9-4832-AF4A-D3713C85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FBC28-88ED-4FE1-9CD8-C5170D6E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513B9-CCFD-476F-BE30-25A985B5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6F733-B7B3-47F1-AC04-124A2F02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D00BD-2589-4629-9D4B-EBA74D1D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9884-485F-4E82-8124-1EE98B3F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9F69F-5C02-4EE1-8E38-671E1B2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2CC0A-8023-458F-8586-728A326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50C-D4BD-4833-B349-494F5900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7B812-8D6A-48EF-B678-635773A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622DD-6FAA-494E-8527-96542ABF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5104F-E752-48A1-BE01-45A1EE60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BFD62-65AC-40A5-A708-52E0D8A6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E7F4B-430E-4FEA-A1D3-820192B1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8B5-96D4-40D7-ACBE-0EA6C86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A26-288B-423C-8862-BE67614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D9D-DF62-48A8-9692-08396B1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8BA-0E23-46B9-84FE-AD5F9AF8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A9D-67F3-4143-8025-DFBE82F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F17-E619-4F48-BEB4-299A1FE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A71-0D00-4CC8-8C4B-D7E3F638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1966-7D68-4E30-A6FB-913CD1EBDF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5E2-68F1-4191-B867-66E30B6CA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od hygie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 is some facts about food hygien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for Bacteria to Spread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acteria start to develop within two hours and once they develop, they spread rapid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ave the food out any longer than 2 hour’s you'll just be invi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647400">
            <a:off x="468000" y="119664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061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745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49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235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06:44Z</dcterms:created>
  <dc:creator>Administrator</dc:creator>
  <dc:description/>
  <dc:language>en-US</dc:language>
  <cp:lastModifiedBy>Administrator</cp:lastModifiedBy>
  <dcterms:modified xsi:type="dcterms:W3CDTF">2009-08-05T02:38:01Z</dcterms:modified>
  <cp:revision>4</cp:revision>
  <dc:subject/>
  <dc:title>Food hygiene</dc:title>
</cp:coreProperties>
</file>