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964-4C5C-4B62-8451-169FA7BF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D72-D526-471F-8480-A96CCA48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AC3-1212-4487-96DA-0253F0C4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D96-7A39-4C10-B6F1-9A1335EC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664BF-A706-4D63-821E-9B83A69B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ACA01-F18E-4B1A-A838-8C24850E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FBA3D-63E0-4A6F-BCE3-E66A79AE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64893-6CCF-4418-9426-102A3128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B7BE9-67FF-4BA9-A06E-05BBD03F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F3772-FA5B-480A-9EEA-40A2D271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83F19-9DF1-4BB6-93DD-911D6E5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362-8F3C-41C4-9D16-C48E2BE4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EFCE1-C656-405C-A5B4-EFA27B59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5768A-97E8-49E5-B44E-C754D5D7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4D624-8301-40E0-B132-2673E37B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4948C-591D-471E-9A67-BD931268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1DDBF-D4F9-4BDD-B85C-4C1B21C7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A48-8586-45C2-9FB2-429BB648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135-EB49-4B62-8A7B-3A3B178B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467-9B2C-4E1E-9073-D48A3A15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B44-7BA5-4108-9643-41651EC4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EA1-8798-44CA-80BE-ED28DE9B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BA4-3B3A-487B-8A87-B5B612A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643-5D3D-47C8-8E24-1A00FA3D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8F6F-F4B2-4062-BDE4-FD38D7E415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F21E-A84F-4DD6-8BF7-3768552662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ood hygien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99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re is some facts about food hygien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Does it Take for Bacteria to Spread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acteria start to develop within two hours and once they develop, they spread rapid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ave the food out any longer than 2 hour’s you'll just be invi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5600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74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647400">
            <a:off x="468000" y="119664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50616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74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745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7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49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74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235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2:06:44Z</dcterms:created>
  <dc:creator>Administrator</dc:creator>
  <dc:description/>
  <dc:language>en-US</dc:language>
  <cp:lastModifiedBy>Administrator</cp:lastModifiedBy>
  <dcterms:modified xsi:type="dcterms:W3CDTF">2009-08-05T02:38:01Z</dcterms:modified>
  <cp:revision>4</cp:revision>
  <dc:subject/>
  <dc:title>Food hygiene</dc:title>
</cp:coreProperties>
</file>