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0BB-5434-46DA-9E21-39741E87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74B2-6B0F-4ACF-97F7-957B6A8F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515-64D0-41F8-89E3-4AD08454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D27-B791-4EEB-9C07-1E918596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640AB-788C-4235-BEAB-FA64A01C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D2B62-2803-4B44-9597-451129C8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35F42-9BCD-4D05-9DAB-B65C3E45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2B667-5A63-4396-8984-317C94CC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4773F-0E02-4011-900F-6092DE8C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9A50D-3968-4808-9A81-8AD81DBF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04125-296A-48DA-9EFC-F4C2D35F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ED2E-BC47-46D4-A582-AB940A9A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DCE7B-B70D-45DE-A577-FB6D607E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5B276-000E-4E01-BEE3-18C3E774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B829B-0B8C-4B32-B07D-4D6808AE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CAB87-CA7A-4A15-A19D-BE05ABBA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752BA-9CAE-4D77-BA5A-BB57F5A5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708A-6EC1-4630-867B-C8F5917C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5AAD-19C1-42B1-AF2D-CE74C4F4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CF9-5B38-4C2F-9F93-BD448304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5F75-19C4-4322-AF01-28D6BFE9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C17-658C-4FDD-9A09-3A572F50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2FAA-CEF0-40D6-84B0-A63E6831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F6CF-F25C-4BAE-8453-79EB150A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2FBC-2063-4EE1-876A-76AF42E4C7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1BA3-F77A-45F6-81F3-66039608AA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Food hygien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399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ere is some facts about food hygiene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ong Does it Take for Bacteria to Spread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Bacteria start to develop within two hours and once they develop, they spread rapid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ave the food out any longer than 2 hour’s you'll just be inviting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35600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745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er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 rot="647400">
            <a:off x="468000" y="1196640"/>
            <a:ext cx="7164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81080" y="-243000"/>
            <a:ext cx="9506160" cy="73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4745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745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4745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49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4745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235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745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02:06:44Z</dcterms:created>
  <dc:creator>Administrator</dc:creator>
  <dc:description/>
  <dc:language>en-US</dc:language>
  <cp:lastModifiedBy>Administrator</cp:lastModifiedBy>
  <dcterms:modified xsi:type="dcterms:W3CDTF">2009-08-05T02:38:01Z</dcterms:modified>
  <cp:revision>4</cp:revision>
  <dc:subject/>
  <dc:title>Food hygiene</dc:title>
</cp:coreProperties>
</file>